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53520-EF66-409A-8CAE-7F9EB3030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C79FF-1CAF-4CD1-B06D-EA3C2088F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5A121-A646-4D58-A8E5-89A33FAD1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9B431-9B96-4778-A7C6-0F1B47B47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84A1A-3A44-442E-9112-B4E6FBC63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40E4A-ED04-4CDF-B097-178038C65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E25B1-C95F-4887-8DA0-AD3B0206C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9525B-3807-48F9-85C5-7448D61F4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4D34C-D10E-4D7B-AC0D-234A8656C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93F09-C213-4C3C-B1CA-EC6FC31F9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03FAC-83DD-4771-93D5-4C5436D13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6F9DB-AF84-42A3-B079-5F7DBD4E5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1440"/>
            <a:ext cx="9140760" cy="68565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D9323-1579-45E3-9F23-5E171F257263}" type="slidenum">
              <a:rPr b="1" lang="zh-CN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103640" y="6597720"/>
            <a:ext cx="51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cc0066"/>
                </a:solidFill>
                <a:latin typeface="楷体_GB2312"/>
                <a:ea typeface="楷体_GB2312"/>
              </a:rPr>
              <a:t>http://www.zzone.cn</a:t>
            </a:r>
            <a:r>
              <a:rPr b="1" lang="zh-CN" sz="1400" spc="-1" strike="noStrike">
                <a:solidFill>
                  <a:srgbClr val="cc0066"/>
                </a:solidFill>
                <a:latin typeface="楷体_GB2312"/>
                <a:ea typeface="楷体_GB2312"/>
              </a:rPr>
              <a:t>　  中国</a:t>
            </a:r>
            <a:r>
              <a:rPr b="1" lang="zh-CN" sz="1400" spc="-1" strike="noStrike">
                <a:solidFill>
                  <a:srgbClr val="cc0066"/>
                </a:solidFill>
                <a:latin typeface="楷体_GB2312"/>
                <a:ea typeface="楷体_GB2312"/>
              </a:rPr>
              <a:t>.</a:t>
            </a:r>
            <a:r>
              <a:rPr b="1" lang="zh-CN" sz="1400" spc="-1" strike="noStrike">
                <a:solidFill>
                  <a:srgbClr val="cc0066"/>
                </a:solidFill>
                <a:latin typeface="楷体_GB2312"/>
                <a:ea typeface="楷体_GB2312"/>
              </a:rPr>
              <a:t>中学政治教学网崇尚互联共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08:17:37Z</dcterms:created>
  <dc:creator>黄华林</dc:creator>
  <dc:description/>
  <dc:language>en-US</dc:language>
  <cp:lastModifiedBy>黄华林</cp:lastModifiedBy>
  <dcterms:modified xsi:type="dcterms:W3CDTF">2005-10-06T08:26:56Z</dcterms:modified>
  <cp:revision>38</cp:revision>
  <dc:subject/>
  <dc:title>幻灯片 1</dc:title>
</cp:coreProperties>
</file>